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6F2-5E92-4647-9257-27E24800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6AC-760F-4930-9941-E73C2A9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262-198D-4030-BBE2-41D3C5A7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49F-9C99-4455-BEDE-72F0CD8A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F78-0473-4825-8930-24BF7B59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245-CF3A-4478-9665-CC20502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E51-E30D-47F6-91E7-7F3640C7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A90-698B-4B82-A753-5C94187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890-8644-4C6C-8FF2-CAFACA0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464-A412-426F-B8D0-22BB8AA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114-2D52-4286-B48E-AF03F49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3D9-2AAF-41F3-8451-120F313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384-2C26-46D8-8546-B2C09337A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208080" y="-682560"/>
            <a:ext cx="9156960" cy="3827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3444840" y="4986360"/>
            <a:ext cx="606420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hyperphysics.phy-astr.gsu.edu/hbase/nuclear/imgnuc/cdate1.gif"/>
          <p:cNvPicPr/>
          <p:nvPr/>
        </p:nvPicPr>
        <p:blipFill>
          <a:blip r:embed="rId3"/>
          <a:stretch/>
        </p:blipFill>
        <p:spPr>
          <a:xfrm>
            <a:off x="762120" y="19810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lf-life of a radioactive isotope explains the amount of time that it takes half of the isotope in a sample to dec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2401920" y="19080"/>
            <a:ext cx="4333680" cy="17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://mathcentral.uregina.ca/beyond/articles/ExpDecay/EQN05.gif"/>
          <p:cNvPicPr/>
          <p:nvPr/>
        </p:nvPicPr>
        <p:blipFill>
          <a:blip r:embed="rId2"/>
          <a:stretch/>
        </p:blipFill>
        <p:spPr>
          <a:xfrm>
            <a:off x="2549520" y="3962520"/>
            <a:ext cx="451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ttps://encrypted-tbn3.gstatic.com/images?q=tbn:ANd9GcR6FHpd8Wrnx3GKrLASUdWvsbeqp5HLYc4w-gxiviX2NxnIAK9rG-9FvNE"/>
          <p:cNvPicPr/>
          <p:nvPr/>
        </p:nvPicPr>
        <p:blipFill>
          <a:blip r:embed="rId1"/>
          <a:stretch/>
        </p:blipFill>
        <p:spPr>
          <a:xfrm>
            <a:off x="4800600" y="3511440"/>
            <a:ext cx="3429000" cy="334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ating is a way to determine the age of archeological artif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in dating things such as bone, cloth, wood, and plant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2"/>
          <a:stretch/>
        </p:blipFill>
        <p:spPr>
          <a:xfrm>
            <a:off x="1316160" y="92160"/>
            <a:ext cx="6522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 dating is a variety of radioactive dating which is only to matter that once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dioactive carbon-14 combines with oxygen to form carbon diox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96840" y="231840"/>
            <a:ext cx="930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bon-14 forms at a rate which appears to be constant, so that by measuring the radioactive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-14 decays with a half life of about 5730 years by the emission of an electron of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7547040" cy="160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ttp://creationrev.wpengine.netdna-cdn.com/wp-content/uploads/2011/06/Carbon14made-300x165.jpg"/>
          <p:cNvPicPr/>
          <p:nvPr/>
        </p:nvPicPr>
        <p:blipFill>
          <a:blip r:embed="rId2"/>
          <a:stretch/>
        </p:blipFill>
        <p:spPr>
          <a:xfrm>
            <a:off x="3657600" y="4191120"/>
            <a:ext cx="4800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a technique called radiometric dating  to estimate the ages of rocks, fossils, and the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people have been led to believe that radiometric dating methods have proved the earth to be billions of years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1341360" y="212760"/>
            <a:ext cx="6168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athcentral.uregina.ca/beyond/articles/ExpDecay/Carbon1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hyperphysics.phy-astr.gsu.edu/hbase/nuclear/cardat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4" descr=""/>
          <p:cNvPicPr/>
          <p:nvPr/>
        </p:nvPicPr>
        <p:blipFill>
          <a:blip r:embed="rId1"/>
          <a:stretch/>
        </p:blipFill>
        <p:spPr>
          <a:xfrm>
            <a:off x="2438280" y="60480"/>
            <a:ext cx="42609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7:28:03Z</dcterms:created>
  <dc:creator>20735</dc:creator>
  <dc:description/>
  <dc:language>en-US</dc:language>
  <cp:lastModifiedBy>ASD</cp:lastModifiedBy>
  <dcterms:modified xsi:type="dcterms:W3CDTF">2014-03-21T17:26:49Z</dcterms:modified>
  <cp:revision>14</cp:revision>
  <dc:subject/>
  <dc:title>Slide 1</dc:title>
</cp:coreProperties>
</file>