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D8D-6B8C-4CAE-A24F-643BC35F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310-03AB-489E-8B89-8F147329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CF4-AAEC-497E-82EB-1B3B4051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524-09FF-40D8-8F64-5DFEB733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EE0-CDC7-43C0-80F5-2B972B11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18F-DF65-4466-A05D-5654CC65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F33-F1B9-4AE2-A997-FE1D533D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571-0CED-4268-BBED-DC62B84F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BB6-C8AE-45EB-9ABF-CC65651F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52A-5D19-4EAF-AB2F-3F8C5820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1A1C-4AD2-479D-8D5E-A8F79FD4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1A3-C102-41C2-AB7F-5B8ACFA6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3738-E199-446A-B681-A7E2D97F6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-208080" y="-682560"/>
            <a:ext cx="9156960" cy="38275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3444840" y="4986360"/>
            <a:ext cx="6064200" cy="245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hyperphysics.phy-astr.gsu.edu/hbase/nuclear/imgnuc/cdate1.gif"/>
          <p:cNvPicPr/>
          <p:nvPr/>
        </p:nvPicPr>
        <p:blipFill>
          <a:blip r:embed="rId3"/>
          <a:stretch/>
        </p:blipFill>
        <p:spPr>
          <a:xfrm>
            <a:off x="762120" y="1981080"/>
            <a:ext cx="3962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alf-life of a radioactive isotope explains the amount of time that it takes half of the isotope in a sample to dec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2401920" y="19080"/>
            <a:ext cx="4333680" cy="17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ttp://mathcentral.uregina.ca/beyond/articles/ExpDecay/EQN05.gif"/>
          <p:cNvPicPr/>
          <p:nvPr/>
        </p:nvPicPr>
        <p:blipFill>
          <a:blip r:embed="rId2"/>
          <a:stretch/>
        </p:blipFill>
        <p:spPr>
          <a:xfrm>
            <a:off x="2549520" y="3962520"/>
            <a:ext cx="4519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ttps://encrypted-tbn3.gstatic.com/images?q=tbn:ANd9GcR6FHpd8Wrnx3GKrLASUdWvsbeqp5HLYc4w-gxiviX2NxnIAK9rG-9FvNE"/>
          <p:cNvPicPr/>
          <p:nvPr/>
        </p:nvPicPr>
        <p:blipFill>
          <a:blip r:embed="rId1"/>
          <a:stretch/>
        </p:blipFill>
        <p:spPr>
          <a:xfrm>
            <a:off x="4800600" y="3511440"/>
            <a:ext cx="3429000" cy="334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-14 Dating is a way to determine the age of archeological artifa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in dating things such as bone, cloth, wood, and plant fi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1316160" y="92160"/>
            <a:ext cx="65228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 dating is a variety of radioactive dating which is only to matter that once l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dioactive carbon-14 combines with oxygen to form carbon diox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-96840" y="231840"/>
            <a:ext cx="93013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bon-14 forms at a rate which appears to be constant, so that by measuring the radioactive emi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-14 decays with a half life of about 5730 years by the emission of an electron of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609480" y="103320"/>
            <a:ext cx="7547040" cy="160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ttp://creationrev.wpengine.netdna-cdn.com/wp-content/uploads/2011/06/Carbon14made-300x165.jpg"/>
          <p:cNvPicPr/>
          <p:nvPr/>
        </p:nvPicPr>
        <p:blipFill>
          <a:blip r:embed="rId2"/>
          <a:stretch/>
        </p:blipFill>
        <p:spPr>
          <a:xfrm>
            <a:off x="3657600" y="4191120"/>
            <a:ext cx="48006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use a technique called radiometric dating  to estimate the ages of rocks, fossils, and the ear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people have been led to believe that radiometric dating methods have proved the earth to be billions of years 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4" descr=""/>
          <p:cNvPicPr/>
          <p:nvPr/>
        </p:nvPicPr>
        <p:blipFill>
          <a:blip r:embed="rId1"/>
          <a:stretch/>
        </p:blipFill>
        <p:spPr>
          <a:xfrm>
            <a:off x="1341360" y="212760"/>
            <a:ext cx="61689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athcentral.uregina.ca/beyond/articles/ExpDecay/Carbon1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hyperphysics.phy-astr.gsu.edu/hbase/nuclear/cardat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tangle 4" descr=""/>
          <p:cNvPicPr/>
          <p:nvPr/>
        </p:nvPicPr>
        <p:blipFill>
          <a:blip r:embed="rId1"/>
          <a:stretch/>
        </p:blipFill>
        <p:spPr>
          <a:xfrm>
            <a:off x="2438280" y="60480"/>
            <a:ext cx="426096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7:28:03Z</dcterms:created>
  <dc:creator>20735</dc:creator>
  <dc:description/>
  <dc:language>en-US</dc:language>
  <cp:lastModifiedBy>ASD</cp:lastModifiedBy>
  <dcterms:modified xsi:type="dcterms:W3CDTF">2014-03-21T17:26:49Z</dcterms:modified>
  <cp:revision>14</cp:revision>
  <dc:subject/>
  <dc:title>Slide 1</dc:title>
</cp:coreProperties>
</file>