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7E5-E4B7-4CD9-A5F7-340C16CE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927-C13F-4F95-92DF-DE4C0BB6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6E2-F4D3-444B-A547-CFC909D8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DD1-845F-486B-A469-37983483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B7E-0C61-40B7-9FFE-677AFD82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B9A-DAA3-43F9-BC60-4079AEB4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35B-7F86-478A-8584-2C472F37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045-2582-45CC-A278-68EE5CF3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67B-00DE-405E-8020-F1DABDF9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8AE-ACAF-4B07-8D9C-C440255E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31D-A036-4518-BC66-0A7A6DD2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55A-185E-4E0D-814E-4A5451C6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30EB-1B0F-483A-9188-615202FDC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-208080" y="-682560"/>
            <a:ext cx="9156960" cy="38275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3444840" y="4986360"/>
            <a:ext cx="6064200" cy="2457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hyperphysics.phy-astr.gsu.edu/hbase/nuclear/imgnuc/cdate1.gif"/>
          <p:cNvPicPr/>
          <p:nvPr/>
        </p:nvPicPr>
        <p:blipFill>
          <a:blip r:embed="rId3"/>
          <a:stretch/>
        </p:blipFill>
        <p:spPr>
          <a:xfrm>
            <a:off x="762120" y="1981080"/>
            <a:ext cx="3962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alf-life of a radioactive isotope explains the amount of time that it takes half of the isotope in a sample to dec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2401920" y="19080"/>
            <a:ext cx="4333680" cy="17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ttp://mathcentral.uregina.ca/beyond/articles/ExpDecay/EQN05.gif"/>
          <p:cNvPicPr/>
          <p:nvPr/>
        </p:nvPicPr>
        <p:blipFill>
          <a:blip r:embed="rId2"/>
          <a:stretch/>
        </p:blipFill>
        <p:spPr>
          <a:xfrm>
            <a:off x="2549520" y="3962520"/>
            <a:ext cx="4519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ttps://encrypted-tbn3.gstatic.com/images?q=tbn:ANd9GcR6FHpd8Wrnx3GKrLASUdWvsbeqp5HLYc4w-gxiviX2NxnIAK9rG-9FvNE"/>
          <p:cNvPicPr/>
          <p:nvPr/>
        </p:nvPicPr>
        <p:blipFill>
          <a:blip r:embed="rId1"/>
          <a:stretch/>
        </p:blipFill>
        <p:spPr>
          <a:xfrm>
            <a:off x="4800600" y="3511440"/>
            <a:ext cx="3429000" cy="334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-14 Dating is a way to determine the age of archeological artifa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in dating things such as bone, cloth, wood, and plant fi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4" descr=""/>
          <p:cNvPicPr/>
          <p:nvPr/>
        </p:nvPicPr>
        <p:blipFill>
          <a:blip r:embed="rId2"/>
          <a:stretch/>
        </p:blipFill>
        <p:spPr>
          <a:xfrm>
            <a:off x="1316160" y="92160"/>
            <a:ext cx="65228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 dating is a variety of radioactive dating which is only to matter that once l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dioactive carbon-14 combines with oxygen to form carbon diox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-96840" y="231840"/>
            <a:ext cx="93013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bon-14 forms at a rate which appears to be constant, so that by measuring the radioactive emi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-14 decays with a half life of about 5730 years by the emission of an electron of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609480" y="103320"/>
            <a:ext cx="7547040" cy="160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http://creationrev.wpengine.netdna-cdn.com/wp-content/uploads/2011/06/Carbon14made-300x165.jpg"/>
          <p:cNvPicPr/>
          <p:nvPr/>
        </p:nvPicPr>
        <p:blipFill>
          <a:blip r:embed="rId2"/>
          <a:stretch/>
        </p:blipFill>
        <p:spPr>
          <a:xfrm>
            <a:off x="3657600" y="4191120"/>
            <a:ext cx="48006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use a technique called radiometric dating  to estimate the ages of rocks, fossils, and the ear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people have been led to believe that radiometric dating methods have proved the earth to be billions of years 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4" descr=""/>
          <p:cNvPicPr/>
          <p:nvPr/>
        </p:nvPicPr>
        <p:blipFill>
          <a:blip r:embed="rId1"/>
          <a:stretch/>
        </p:blipFill>
        <p:spPr>
          <a:xfrm>
            <a:off x="1341360" y="212760"/>
            <a:ext cx="61689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athcentral.uregina.ca/beyond/articles/ExpDecay/Carbon1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hyperphysics.phy-astr.gsu.edu/hbase/nuclear/cardat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tangle 4" descr=""/>
          <p:cNvPicPr/>
          <p:nvPr/>
        </p:nvPicPr>
        <p:blipFill>
          <a:blip r:embed="rId1"/>
          <a:stretch/>
        </p:blipFill>
        <p:spPr>
          <a:xfrm>
            <a:off x="2438280" y="60480"/>
            <a:ext cx="426096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7:28:03Z</dcterms:created>
  <dc:creator>20735</dc:creator>
  <dc:description/>
  <dc:language>en-US</dc:language>
  <cp:lastModifiedBy>ASD</cp:lastModifiedBy>
  <dcterms:modified xsi:type="dcterms:W3CDTF">2014-03-21T17:26:49Z</dcterms:modified>
  <cp:revision>14</cp:revision>
  <dc:subject/>
  <dc:title>Slide 1</dc:title>
</cp:coreProperties>
</file>