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D85-657A-4788-8E2A-12DCFF2C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7B2-54AF-426E-8311-B5D59AA3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28E-CA36-42F8-B18A-66EF95AF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3FD-9E9E-4D9D-BD3F-BA4EA82E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39F-B383-4431-9216-A4945CB5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1A2-A144-4C38-9A5C-5CC45B67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81D-221A-44B8-89C9-090A5564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FF5-36A1-4AE5-8F4C-D21CD6AC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438-DFE8-43ED-81F0-AED5A6B9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AE9-F3D1-4A11-86C3-513DC082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DB6-501F-4F17-99AD-E80F1B72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689-8A25-4685-AE23-E18A8AB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C756-F68B-4B79-AC8B-B6252106D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gm.nationalgeographic.com/2006/04/inside-chernobyl/audio-interactive?rptregcta=reg_free_np&amp;rptregcampaign=20131016_rw_membership_n1p_us_se_w#finished" TargetMode="External"/><Relationship Id="rId3" Type="http://schemas.openxmlformats.org/officeDocument/2006/relationships/hyperlink" Target="http://www.cbsnews.com/videos/inside-fukushima-radiation-cleanup-could-take-decades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0/0c/K-1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3.amazonaws.com/rapgenius/filepicker%2FDe5Wti2WRw2vNiLOCdAg_Radioactive_Haz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y Chris Geo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4675320" y="974880"/>
            <a:ext cx="51451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blogs.cas.suffolk.edu/yhuang9/files/2013/10/14-Fukushima-Daiichi-Nuclear-Disaster.png"/>
          <p:cNvPicPr/>
          <p:nvPr/>
        </p:nvPicPr>
        <p:blipFill>
          <a:blip r:embed="rId1"/>
          <a:stretch/>
        </p:blipFill>
        <p:spPr>
          <a:xfrm>
            <a:off x="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gm.nationalgeographic.com/2006/04/inside-chernobyl/audio-interactive?rptregcta=reg_free_np&amp;rptregcampaign=20131016_rw_membership_n1p_us_se_w#fin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bsnews.com/videos/inside-fukushima-radiation-cleanup-could-take-decad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ews.bbc.co.uk/2/hi/europe/3136111.s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chernobyl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fukushima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-19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nuclear sub dis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a submarine not built to perfection and was rushed in its produc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t in the 1960s by the Soviet U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oblem started on its first voy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4:15 on July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1961 the subs nuclear reactor cooling system fai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leak also almost started a nuclear melt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sailors went to repair the cooling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rew men sacrificed themselves to very high doses of rad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men saved the sub by died a few days l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scrapped by Russia on Friday, 8 August, 200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://newsimg.bbc.co.uk/shared/img/o.gif"/>
          <p:cNvPicPr/>
          <p:nvPr/>
        </p:nvPicPr>
        <p:blipFill>
          <a:blip r:embed="rId1"/>
          <a:stretch/>
        </p:blipFill>
        <p:spPr>
          <a:xfrm>
            <a:off x="0" y="-6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File:K-1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57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 26, 1986 the nuclear plant expl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ay the explosion was caused by poorly built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orkers died in the first bl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and caesium-137 effected the public in the nearby town of Pripy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yat was evacuated on the 27 of Apr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t of the radiation went into the air and was taken to many countries like Russia, Belarus,and over Scandina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1.trekearth.com/photos/36210/chern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atomicarchive.com/History/coldwar/images/chernoby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2.bp.blogspot.com/-0z1SHUsSJUo/TX806fWPsWI/AAAAAAAAbKY/KHqnXVBMmLg/s1600/Fukushima%2Bnuclear%2Bpower%2Bplant%2Bexplo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a big earthquake and then and even bigger tsunami hit the plant in Fukushima,Ja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reactors were dam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as added to cool the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was released into the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ere evacu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pan has be putting people back little by lit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encrypted-tbn3.gstatic.com/images?q=tbn:ANd9GcSEoL4w_nav8kEPP3vnVqsAIOOagKE5SYElmg4rSUie7644z9w2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2:01:22Z</dcterms:created>
  <dc:creator> </dc:creator>
  <dc:description/>
  <dc:language>en-US</dc:language>
  <cp:lastModifiedBy> </cp:lastModifiedBy>
  <dcterms:modified xsi:type="dcterms:W3CDTF">2014-03-25T12:15:05Z</dcterms:modified>
  <cp:revision>29</cp:revision>
  <dc:subject/>
  <dc:title>Slide 1</dc:title>
</cp:coreProperties>
</file>