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F8F-1B71-4DD8-A150-97AD8013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640-7168-4B10-8555-8A3834C3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AD6-EC76-4370-90DF-25E4AD20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975-9418-4E70-99CB-C980B4D9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EFD-FBC7-4BF0-851F-63DBA3C9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8AF-A68C-42DC-AB52-F5C7019A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A17-B4D4-4650-A8E5-0F83FE66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F92-90EA-4FC1-AA99-C14D643E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18C-330A-4DC9-A546-3FA7B50C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C1C-FC2F-4E64-A4CA-AE7D0A5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418-6FE6-4117-A4A3-13E520A5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39E-8091-438E-BCC0-6D83B7F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03E7-137D-4273-A31B-4D64EA293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gm.nationalgeographic.com/2006/04/inside-chernobyl/audio-interactive?rptregcta=reg_free_np&amp;rptregcampaign=20131016_rw_membership_n1p_us_se_w#finished" TargetMode="External"/><Relationship Id="rId3" Type="http://schemas.openxmlformats.org/officeDocument/2006/relationships/hyperlink" Target="http://www.cbsnews.com/videos/inside-fukushima-radiation-cleanup-could-take-decades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upload.wikimedia.org/wikipedia/commons/0/0c/K-1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3.amazonaws.com/rapgenius/filepicker%2FDe5Wti2WRw2vNiLOCdAg_Radioactive_Haz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765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y Chris Geo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4675320" y="974880"/>
            <a:ext cx="51451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blogs.cas.suffolk.edu/yhuang9/files/2013/10/14-Fukushima-Daiichi-Nuclear-Disaster.png"/>
          <p:cNvPicPr/>
          <p:nvPr/>
        </p:nvPicPr>
        <p:blipFill>
          <a:blip r:embed="rId1"/>
          <a:stretch/>
        </p:blipFill>
        <p:spPr>
          <a:xfrm>
            <a:off x="0" y="0"/>
            <a:ext cx="92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gm.nationalgeographic.com/2006/04/inside-chernobyl/audio-interactive?rptregcta=reg_free_np&amp;rptregcampaign=20131016_rw_membership_n1p_us_se_w#fini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bsnews.com/videos/inside-fukushima-radiation-cleanup-could-take-decad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ews.bbc.co.uk/2/hi/europe/3136111.s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chernobyl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fukushima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-19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nuclear sub dis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a submarine not built to perfection and was rushed in its produc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t in the 1960s by the Soviet Un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oblem started on its first voy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4:15 on July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1961 the subs nuclear reactor cooling system fai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leak also almost started a nuclear meltd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 sailors went to repair the cooling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crew men sacrificed themselves to very high doses of rad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men saved the sub by died a few days l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scrapped by Russia on Friday, 8 August, 200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://newsimg.bbc.co.uk/shared/img/o.gif"/>
          <p:cNvPicPr/>
          <p:nvPr/>
        </p:nvPicPr>
        <p:blipFill>
          <a:blip r:embed="rId1"/>
          <a:stretch/>
        </p:blipFill>
        <p:spPr>
          <a:xfrm>
            <a:off x="0" y="-68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File:K-1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57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il 26, 1986 the nuclear plant expl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ay the explosion was caused by poorly built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workers died in the first bl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and caesium-137 effected the public in the nearby town of Pripy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yat was evacuated on the 27 of Apr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t of the radiation went into the air and was taken to many countries like Russia, Belarus,and over Scandina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1.trekearth.com/photos/36210/cherno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atomicarchive.com/History/coldwar/images/chernoby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2.bp.blogspot.com/-0z1SHUsSJUo/TX806fWPsWI/AAAAAAAAbKY/KHqnXVBMmLg/s1600/Fukushima%2Bnuclear%2Bpower%2Bplant%2Bexplos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a big earthquake and then and even bigger tsunami hit the plant in Fukushima,Ja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reactors were dam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as added to cool the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was released into the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ere evacu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pan has be putting people back little by lit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encrypted-tbn3.gstatic.com/images?q=tbn:ANd9GcSEoL4w_nav8kEPP3vnVqsAIOOagKE5SYElmg4rSUie7644z9w2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2:01:22Z</dcterms:created>
  <dc:creator> </dc:creator>
  <dc:description/>
  <dc:language>en-US</dc:language>
  <cp:lastModifiedBy> </cp:lastModifiedBy>
  <dcterms:modified xsi:type="dcterms:W3CDTF">2014-03-25T12:15:05Z</dcterms:modified>
  <cp:revision>29</cp:revision>
  <dc:subject/>
  <dc:title>Slide 1</dc:title>
</cp:coreProperties>
</file>