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5F41-9B8B-401A-B4DC-D23C0BA18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86F3-E959-4BED-A660-8C5A979C7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EA33-ED31-4450-A623-5CDA63009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56B8-F9A2-42AA-B497-4522FC6B4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8E57-8FB5-4F9C-B015-1E5873839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C06D-0853-4A7E-B112-16602949F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11F5-7A85-4ED3-A76C-00CB2EADA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CD9C-310D-41E0-BC8B-9164AC312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F8CE-6CF8-413C-90E4-1F5CC4D5B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8F01-DAAE-4D96-B3B0-21DD67DE8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0CA6-5A74-42D4-A159-4D59F9202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2C9A-648A-44A0-9647-9FC51581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0ED45-C34C-4386-9BA2-8ADD013214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ngm.nationalgeographic.com/2006/04/inside-chernobyl/audio-interactive?rptregcta=reg_free_np&amp;rptregcampaign=20131016_rw_membership_n1p_us_se_w#finished" TargetMode="External"/><Relationship Id="rId3" Type="http://schemas.openxmlformats.org/officeDocument/2006/relationships/hyperlink" Target="http://www.cbsnews.com/videos/inside-fukushima-radiation-cleanup-could-take-decades/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file://upload.wikimedia.org/wikipedia/commons/0/0c/K-19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s3.amazonaws.com/rapgenius/filepicker%2FDe5Wti2WRw2vNiLOCdAg_Radioactive_Hazar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67652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By Chris Geor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Rectangle 3" descr=""/>
          <p:cNvPicPr/>
          <p:nvPr/>
        </p:nvPicPr>
        <p:blipFill>
          <a:blip r:embed="rId2"/>
          <a:stretch/>
        </p:blipFill>
        <p:spPr>
          <a:xfrm>
            <a:off x="4675320" y="974880"/>
            <a:ext cx="5145120" cy="28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blogs.cas.suffolk.edu/yhuang9/files/2013/10/14-Fukushima-Daiichi-Nuclear-Disaster.png"/>
          <p:cNvPicPr/>
          <p:nvPr/>
        </p:nvPicPr>
        <p:blipFill>
          <a:blip r:embed="rId1"/>
          <a:stretch/>
        </p:blipFill>
        <p:spPr>
          <a:xfrm>
            <a:off x="0" y="0"/>
            <a:ext cx="9237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http://tulsaautism.com/wp-content/uploads/2013/11/Yellow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DE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ngm.nationalgeographic.com/2006/04/inside-chernobyl/audio-interactive?rptregcta=reg_free_np&amp;rptregcampaign=20131016_rw_membership_n1p_us_se_w#finish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cbsnews.com/videos/inside-fukushima-radiation-cleanup-could-take-decades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http://tulsaautism.com/wp-content/uploads/2013/11/Yellow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k Ci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news.bbc.co.uk/2/hi/europe/3136111.st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world-nuclear.org/info/safety-and-security/safety-of-plants/chernobyl-accident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world-nuclear.org/info/safety-and-security/safety-of-plants/fukushima-accident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http://tulsaautism.com/wp-content/uploads/2013/11/Yellow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-19 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nuclear sub disas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6094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K-19 was a submarine not built to perfection and was rushed in its productio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uilt in the 1960s by the Soviet Un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problem started on its first voy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t 4:15 on July 4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1961 the subs nuclear reactor cooling system fail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leak also almost started a nuclear meltdow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8 sailors went to repair the cooling syst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se crew men sacrificed themselves to very high doses of radi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se men saved the sub by died a few days lat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K-19 was scrapped by Russia on Friday, 8 August, 2003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http://newsimg.bbc.co.uk/shared/img/o.gif"/>
          <p:cNvPicPr/>
          <p:nvPr/>
        </p:nvPicPr>
        <p:blipFill>
          <a:blip r:embed="rId1"/>
          <a:stretch/>
        </p:blipFill>
        <p:spPr>
          <a:xfrm>
            <a:off x="0" y="-68400"/>
            <a:ext cx="47520" cy="9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File:K-19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71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http://tulsaautism.com/wp-content/uploads/2013/11/Yellow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ernoby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457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ril 26, 1986 the nuclear plant explo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y say the explosion was caused by poorly built rea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 workers died in the first bl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odine-131 and caesium-137 effected the public in the nearby town of Pripy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pyat was evacuated on the 27 of Apr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ot of the radiation went into the air and was taken to many countries like Russia, Belarus,and over Scandinav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://i1.trekearth.com/photos/36210/cherno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www.atomicarchive.com/History/coldwar/images/chernoby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://2.bp.blogspot.com/-0z1SHUsSJUo/TX806fWPsWI/AAAAAAAAbKY/KHqnXVBMmLg/s1600/Fukushima%2Bnuclear%2Bpower%2Bplant%2Bexplosio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Fukushima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kushi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fter a big earthquake and then and even bigger tsunami hit the plant in Fukushima,Japa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y of the reactors were damag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 was added to cool the rea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odine-131 was released into the a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y were evacua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apan has be putting people back little by litt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ttps://encrypted-tbn3.gstatic.com/images?q=tbn:ANd9GcSEoL4w_nav8kEPP3vnVqsAIOOagKE5SYElmg4rSUie7644z9w2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4T12:01:22Z</dcterms:created>
  <dc:creator> </dc:creator>
  <dc:description/>
  <dc:language>en-US</dc:language>
  <cp:lastModifiedBy> </cp:lastModifiedBy>
  <dcterms:modified xsi:type="dcterms:W3CDTF">2014-03-25T12:15:05Z</dcterms:modified>
  <cp:revision>29</cp:revision>
  <dc:subject/>
  <dc:title>Slide 1</dc:title>
</cp:coreProperties>
</file>