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FAF32-BBE1-49A6-B2C9-B6A629664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40191-06E3-4F5C-93B8-449D18911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365B7-C4BD-4EA2-8570-2D8923B28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D3823-CD29-4F84-B0AA-376AA5761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114F6-3C31-43B0-AC51-53B855C15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BC7C9-8102-4CEE-8548-AE9C21368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25A0B-F6EC-4580-A6D5-48A7FDE47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C17FE-2AA3-4FD1-84B0-145F853D0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DF527-1EF3-4F5A-BBA5-EA4E41B94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3478E-C055-4AD1-B23B-E080EC040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605E6-C92F-4BCD-B216-CF4048E65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13C0E-02B6-4CD9-B330-CAA3F7C28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95522-59B6-406D-B7FC-C70D73D96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F4D8A-EB46-463B-861C-73D3EB74D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7C889-727F-49FF-A424-D1A88BF52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F3F25-9ED5-46B8-A2BB-5552E9D37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9FE25-18E2-4E88-87E1-1FDD92ABB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2C2DB4-EF7E-44DB-B202-FAA7E5527F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981276-C39E-48AD-8278-F1AF06465F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C13D39-3552-47FA-8A9F-B8C68660C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EDCE7B-51AA-409C-BE77-4F21CDCF8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42EB9D-A16C-44FF-90AD-F0FD6ABDD0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84F8-BA76-466E-9BD8-92B7C065B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7811D0-4F54-45A8-A1DF-481E8ECD57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5BE5A-9448-47FA-B469-34EF6C19E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29EB6-47DB-4ED6-847B-3418121AF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9615D-F0AB-49CD-ABDD-1E1C75EF9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7CFFE8-01B4-4F1E-BA31-7A0E7D8E4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B61C7A-B260-45E8-92B6-AAE284F1D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E6194-F740-4C3E-8544-B05E7BC680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E5AB8E-2DFE-4EC5-977A-91855B9A56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EBE4E0-FF31-4268-8C1F-4D61549A86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168124-E557-4094-BB4E-349B6AB19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BF42D-EAC4-4156-8000-07126F2ED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92C74-D9CD-4BB8-803E-F80AF80507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9FE64-79F1-4E5D-92F9-BD8B545F1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8C2BA-D564-4FFB-9576-9E9E45E36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17A2F-B644-4FEC-8791-32D675DBA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43FFB-CD6B-4B96-BAFE-BCC836458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73A41-A57C-4CE4-A9AE-DF3E00476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8BF18F-FC6B-464F-9E64-6AAB54AD5F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70E7E2-7B7C-493B-962C-723E3B95AC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2200F-DDED-4E7F-9749-26495ED781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3137DA-B0F7-483E-80FB-FAD544B168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01299-32A1-441A-A15F-ACB95F5EF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C1A037-A0FF-4B2A-8931-FD037C2D29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A63A19-AFCB-4919-A300-204493A13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BE45F9-B1DD-4F44-81DF-8908C9FB2C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D618EB-C008-463C-BB2E-1A8FAC28C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5BD4BB-53DD-42DF-A801-156DEB5D5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E0B3B-AEA9-47A2-A603-C28725C18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243FF-169E-4F19-A8A5-7447F417F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9A494B-8E31-4433-9FDD-1B260AB8D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8A8D1B-D1FD-4FE3-BA31-7AF1FF9583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D96FA0-9C6D-491D-9405-B3E3438364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DBE4B-7ED8-46B3-80B5-5B8A6166F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F34FB6-9D36-4598-B147-E95C92B4AF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D4AD55-6395-481E-BFA7-D6B26D9534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DF97F5-B2EC-43A2-AD2F-282553B93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A5668D-8F53-4977-9D74-19A809E776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255A89-E84D-429F-A34B-BD02D7973D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F45D25-148A-4DCF-89E6-EBD76D3AD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7F39D0-00AD-405B-AC41-742A206B10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7BDE0-0CB4-46D4-AE20-8567EEE47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6090AE-24F3-4C63-8C9D-F8E956584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545DA-85EC-4F15-8DFF-5EAF0C399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A5AA-17CB-4002-96B5-417A19C7F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1BD2CC-2989-423E-8300-07D7B62000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B9AA99-1078-4298-8BB1-35827C31CC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B79883-F383-44CC-92A1-98C2303707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A82695-EAF4-4FBE-8B3D-DD04E173FD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5339F-16C0-4FA9-BF5B-870FB143C9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2329B-87B6-447D-8CE7-4B3B5500CD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F0D812-319D-4824-97DB-D18966D940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B59EF-1EF2-4FA4-A8A8-05515C402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B5A5EA-870F-40BC-AB0C-F7C9D907BD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6A092-76BE-49E7-89A1-46025F1AF3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D74E6-BB35-4C72-B0D0-FA8D1B07C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D6E2A-E058-46EB-94D9-319F30BBF2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46941-E207-45AB-9D70-32A8A39115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F698F6-442B-47AE-AF55-0F923E302A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01A542-2A98-4882-942F-0EEC2D2336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279890-BDD5-454C-B4CA-BCA8061605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70BDD-566C-4E79-AC6B-2B558B650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7460-8BAF-4B53-AB96-0A7E9002C00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22CF-509E-48AC-9076-A7AC57B0E1A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08BD-9765-4864-BFA1-A48B2229167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4115-C5E7-4B29-B8F6-0C195C1E4C3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81CA-BD09-44CB-90EB-28EABD34814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813F-D851-411E-B885-E6F73DCDE01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24A1-39A6-4C7E-8C1D-F2507D0ADC5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nfoplease.com/ipa/A0001457.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http://previous.presstv.ir/photo/20120623/gholami20120623141100013.jpg"/>
          <p:cNvPicPr/>
          <p:nvPr/>
        </p:nvPicPr>
        <p:blipFill>
          <a:blip r:embed="rId1"/>
          <a:stretch/>
        </p:blipFill>
        <p:spPr>
          <a:xfrm>
            <a:off x="0" y="0"/>
            <a:ext cx="9144000" cy="6858000"/>
          </a:xfrm>
          <a:prstGeom prst="rect">
            <a:avLst/>
          </a:prstGeom>
          <a:ln w="0">
            <a:noFill/>
          </a:ln>
        </p:spPr>
      </p:pic>
      <p:pic>
        <p:nvPicPr>
          <p:cNvPr id="369" name="Title 1" descr=""/>
          <p:cNvPicPr/>
          <p:nvPr/>
        </p:nvPicPr>
        <p:blipFill>
          <a:blip r:embed="rId2"/>
          <a:stretch/>
        </p:blipFill>
        <p:spPr>
          <a:xfrm>
            <a:off x="1371600" y="500040"/>
            <a:ext cx="6510240" cy="3840120"/>
          </a:xfrm>
          <a:prstGeom prst="rect">
            <a:avLst/>
          </a:prstGeom>
          <a:ln w="0">
            <a:noFill/>
          </a:ln>
        </p:spPr>
      </p:pic>
      <p:sp>
        <p:nvSpPr>
          <p:cNvPr id="370"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rbel"/>
              </a:rPr>
              <a:t>Shawn Lonabaugh</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http://theyellowbrickroadfreeblog.files.wordpress.com/2012/09/bomba-atomica-tsar-czar-2.jpg?w=593&amp;h=261&amp;crop=1"/>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00000"/>
                </a:solidFill>
                <a:latin typeface="Haettenschweiler"/>
              </a:rPr>
              <a:t>Background</a:t>
            </a:r>
            <a:endParaRPr b="0" lang="en-US" sz="6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uclear energy first came about it the 1940s during WWII. Nuclear properties had been studied for years prior but came directly to be known due to World War II. The atomic bomb is what really sparked interest in nuclear energy. </a:t>
            </a:r>
            <a:r>
              <a:rPr b="0" lang="en-US" sz="2400" spc="-1" strike="noStrike">
                <a:solidFill>
                  <a:srgbClr val="000000"/>
                </a:solidFill>
                <a:latin typeface="Corbel"/>
              </a:rPr>
              <a:t>After it was built, nuclear power plants began to show up as a new kind of energy source. The first power plant being the Obinsk Nuclear Power </a:t>
            </a:r>
            <a:r>
              <a:rPr b="0" lang="en-US" sz="2400" spc="-1" strike="noStrike">
                <a:solidFill>
                  <a:srgbClr val="ffffff"/>
                </a:solidFill>
                <a:latin typeface="Corbel"/>
              </a:rPr>
              <a:t>Plant. Ever since that came to be, other nuclear plants began showing up all over the world. Little did the people building the power plants know that they could go from a source of energy to a horrible disaster. Nuclear disasters soon came to be known and dangerous, with the first being in 1952.</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276360" y="380880"/>
            <a:ext cx="38862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uses</a:t>
            </a:r>
            <a:endParaRPr b="0" lang="en-US" sz="4000" spc="-1" strike="noStrike">
              <a:solidFill>
                <a:srgbClr val="c1eeff"/>
              </a:solidFill>
              <a:latin typeface="Consolas"/>
            </a:endParaRPr>
          </a:p>
        </p:txBody>
      </p:sp>
      <p:sp>
        <p:nvSpPr>
          <p:cNvPr id="375" name=""/>
          <p:cNvSpPr txBox="1"/>
          <p:nvPr/>
        </p:nvSpPr>
        <p:spPr>
          <a:xfrm>
            <a:off x="685800" y="1066320"/>
            <a:ext cx="7772400" cy="4953240"/>
          </a:xfrm>
          <a:prstGeom prst="rect">
            <a:avLst/>
          </a:prstGeom>
          <a:noFill/>
          <a:ln w="0">
            <a:noFill/>
          </a:ln>
        </p:spPr>
        <p:txBody>
          <a:bodyPr anchor="t">
            <a:normAutofit fontScale="99000"/>
          </a:bodyPr>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urity Measures Failing.</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ack of attention paid to reactor’s statu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gnoring how stable the reactor or other parts are.</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oss of the Coolant.</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ccidental Removal of uranium rod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amage to reactor or plant by natural disasters such as tsunamis or earthquake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laws in the design of the reactor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re Explosion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eaks of radioactive gas into air.</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xplosion fueled by combustible sugar dust.</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Mistakes by plant operator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76" name="Picture 2" descr="http://static.ddmcdn.com/gif/nuclear-meltdown-1.jpg"/>
          <p:cNvPicPr/>
          <p:nvPr/>
        </p:nvPicPr>
        <p:blipFill>
          <a:blip r:embed="rId1"/>
          <a:stretch/>
        </p:blipFill>
        <p:spPr>
          <a:xfrm>
            <a:off x="6286680" y="457200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5" descr="http://2.bp.blogspot.com/-i50LQRbu1Ms/TY8z-1oRVeI/AAAAAAAAAJg/6aCuQv0dysU/s1600/japan-nuclear-leak.jpg"/>
          <p:cNvPicPr/>
          <p:nvPr/>
        </p:nvPicPr>
        <p:blipFill>
          <a:blip r:embed="rId1"/>
          <a:stretch/>
        </p:blipFill>
        <p:spPr>
          <a:xfrm>
            <a:off x="6645240" y="5181480"/>
            <a:ext cx="2498760" cy="1676520"/>
          </a:xfrm>
          <a:prstGeom prst="rect">
            <a:avLst/>
          </a:prstGeom>
          <a:ln w="0">
            <a:noFill/>
          </a:ln>
        </p:spPr>
      </p:pic>
      <p:sp>
        <p:nvSpPr>
          <p:cNvPr id="378" name="PlaceHolder 1"/>
          <p:cNvSpPr>
            <a:spLocks noGrp="1"/>
          </p:cNvSpPr>
          <p:nvPr>
            <p:ph type="title"/>
          </p:nvPr>
        </p:nvSpPr>
        <p:spPr>
          <a:xfrm>
            <a:off x="1523520" y="228600"/>
            <a:ext cx="62485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eeff"/>
                </a:solidFill>
                <a:latin typeface="Consolas"/>
              </a:rPr>
              <a:t>Instances of Nuclear disasters</a:t>
            </a:r>
            <a:endParaRPr b="0" lang="en-US" sz="2800" spc="-1" strike="noStrike">
              <a:solidFill>
                <a:srgbClr val="c1eeff"/>
              </a:solidFill>
              <a:latin typeface="Consolas"/>
            </a:endParaRPr>
          </a:p>
        </p:txBody>
      </p:sp>
      <p:sp>
        <p:nvSpPr>
          <p:cNvPr id="379" name=""/>
          <p:cNvSpPr txBox="1"/>
          <p:nvPr/>
        </p:nvSpPr>
        <p:spPr>
          <a:xfrm>
            <a:off x="914400" y="762120"/>
            <a:ext cx="7772400" cy="579096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52: Dec. 12 Ottawa Canada:  Meltdown of Uranium core after accidental removal of 4 control rods.</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53: Love Canal, N.Y.:  Waste from Chemical plants ravaged area.</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79: Harrisburg, PA: One of two reactors lost coolant. Uranium core had a partial meltdown, radioactive water and gases were released. Worst reactor accident in US history.</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86:Chernobyl: Explosion and fire in the graphite core spread nuclear materials all over Soviet Union. Worst accident to date.</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2011: Fukushima: Explosion in no.1 reactor destroys building. Cooling system failed after a tsunami</a:t>
            </a:r>
            <a:r>
              <a:rPr b="0" lang="en-US" sz="2400" spc="-1" strike="noStrike">
                <a:solidFill>
                  <a:srgbClr val="000000"/>
                </a:solidFill>
                <a:latin typeface="Corbel"/>
              </a:rPr>
              <a:t> and an </a:t>
            </a:r>
            <a:r>
              <a:rPr b="0" lang="en-US" sz="2400" spc="-1" strike="noStrike">
                <a:solidFill>
                  <a:srgbClr val="ffffff"/>
                </a:solidFill>
                <a:latin typeface="Corbel"/>
              </a:rPr>
              <a:t>earthquake struck Japan.</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hernobyl and Fukushima</a:t>
            </a:r>
            <a:endParaRPr b="0" lang="en-US" sz="4000" spc="-1" strike="noStrike">
              <a:solidFill>
                <a:srgbClr val="c1eeff"/>
              </a:solidFill>
              <a:latin typeface="Consolas"/>
            </a:endParaRPr>
          </a:p>
        </p:txBody>
      </p:sp>
      <p:sp>
        <p:nvSpPr>
          <p:cNvPr id="38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2" name="Picture 2" descr="http://i.dailymail.co.uk/i/pix/2011/03/14/article-1365781-0B2BE15B00000578-811_634x432.jpg"/>
          <p:cNvPicPr/>
          <p:nvPr/>
        </p:nvPicPr>
        <p:blipFill>
          <a:blip r:embed="rId1"/>
          <a:stretch/>
        </p:blipFill>
        <p:spPr>
          <a:xfrm>
            <a:off x="4800600" y="1981080"/>
            <a:ext cx="4343400" cy="2959200"/>
          </a:xfrm>
          <a:prstGeom prst="rect">
            <a:avLst/>
          </a:prstGeom>
          <a:ln w="0">
            <a:noFill/>
          </a:ln>
        </p:spPr>
      </p:pic>
      <p:sp>
        <p:nvSpPr>
          <p:cNvPr id="383"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AutoShape 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AutoShape 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AutoShape 1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AutoShape 1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AutoShape 1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9" name="Picture 16" descr="https://encrypted-tbn2.gstatic.com/images?q=tbn:ANd9GcQxEWZjwQccd8OmKXuUcPUXY-6bdycklqark6MFvUI3HVx67ZGE"/>
          <p:cNvPicPr/>
          <p:nvPr/>
        </p:nvPicPr>
        <p:blipFill>
          <a:blip r:embed="rId2"/>
          <a:stretch/>
        </p:blipFill>
        <p:spPr>
          <a:xfrm>
            <a:off x="838080" y="1828800"/>
            <a:ext cx="327204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urces:</a:t>
            </a:r>
            <a:endParaRPr b="0" lang="en-US" sz="4000" spc="-1" strike="noStrike">
              <a:solidFill>
                <a:srgbClr val="c1eeff"/>
              </a:solidFill>
              <a:latin typeface="Consolas"/>
            </a:endParaRPr>
          </a:p>
        </p:txBody>
      </p:sp>
      <p:sp>
        <p:nvSpPr>
          <p:cNvPr id="391" name=""/>
          <p:cNvSpPr txBox="1"/>
          <p:nvPr/>
        </p:nvSpPr>
        <p:spPr>
          <a:xfrm>
            <a:off x="914400" y="1294920"/>
            <a:ext cx="7772400" cy="52578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rPr>
              <a:t>http://www.infoplease.com/ipa/A0001457.html</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safety-and-security/safety-of-plants/chernobyl-accident/</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Safety-and-Security/Safety-of-Plants/Fukushima-Accident/</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Current-and-Future-Generation/Outline-History-of-NUclear-Energy/</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2:04:21Z</dcterms:created>
  <dc:creator> </dc:creator>
  <dc:description/>
  <dc:language>en-US</dc:language>
  <cp:lastModifiedBy> </cp:lastModifiedBy>
  <dcterms:modified xsi:type="dcterms:W3CDTF">2014-03-25T12:14:24Z</dcterms:modified>
  <cp:revision>17</cp:revision>
  <dc:subject/>
  <dc:title>Nuclear Disasters</dc:title>
</cp:coreProperties>
</file>