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6E7525-D68D-4262-A6DB-3822DA1D70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79A73-7843-4427-8E5F-000D30070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CA6E9A-C2C5-4A97-9728-779F04703E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FBA5D7-43AF-4E4F-9BF3-9DF2705527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2A1D02-3DEC-4F67-9CE3-2156109947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42E163-EB8A-450C-A48D-4B1CBDED50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AB83C7-46B5-468B-B762-8F7B13C20F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F05A73-2452-4FEF-A01E-E49437A63D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C93725-695C-4713-857A-9E6964C35F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C7CDEF-99D0-44B4-A7E4-300F707029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87AE7-FD29-471B-AC27-FB136AE3D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B092B-B783-418A-A318-D2B682078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39F82-6724-4B3A-BADF-6B4181970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FDA19-5A7E-4FDC-BC31-F91A064EE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A062DE-F938-440F-A3A6-7FF8971A6F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F8D2B7-0A3E-4D12-8D2F-DDC53FF2E8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2EC950-5B10-42A2-B165-6D4DEDA0A5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418075-D0E0-40F2-BD53-40C4895B43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F434A0-F316-4655-8FB2-3E0A51239D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920933-7CB4-464A-8FB0-2405C12DD0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19E136-119E-485E-91BA-2222243F5D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EF599C-C7BC-471C-B533-2EFC197CCD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04705-6B88-4513-8C6C-F71BBC56E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C2648F-DE5D-44F9-861D-E018081E45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0C626B-0A13-46EA-A297-D975AEF6A7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39EC45-04CE-4F50-92F0-3163782A29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CFD526-5A8E-477D-9A88-1CF550D19D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D7307D-ED9C-4D66-8748-01B4E965E8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3FC6E7-6A30-44A3-AE71-F63A311514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FC7CA7-70D4-4D80-8FAA-9EED4C0059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5198CA-78EB-4EB7-B88D-2A03EEDEBF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768B90-9E6A-4D88-8746-24DDED4704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054C49-7416-495D-ADC5-554DC7D8C6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4EABB-F5B0-4750-B656-E20DA96E7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10F4A8-817A-4393-A120-EF9138ACB7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D3418E-2356-46AC-9BA3-FCFC7CC8AD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2E7B0B-D49B-46B2-902B-7CF23E7813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B2F779-B091-48CB-8423-AEE09ED67D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428D5D-2A29-4830-B280-6A5EA89B86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4173B6-D5AA-441A-97DD-CA82C453CA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3BAEFF-3471-4CFC-9C73-AFDDA4D104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13A939-7FC4-43F9-AE64-19DBF6D7D1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57732C-AA57-4B24-98D6-5E8F752526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861A2A-6048-400A-8001-4565CD07A7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22D13-140F-4AE4-B11E-8CD57CBC5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674719-0B9A-43C7-B2A6-68E7FC7DBB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A61203-025B-4E2B-93F0-51F6142460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F8ADA4-928B-479D-A8D8-1B99F510F7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A5E275-5ED0-4172-A728-FBF4204CC4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116239-AFC8-4576-B723-B650B0DFD2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FA23B1-34B1-40DD-8F47-79A95ADF8C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FDE1B6-F7D0-4699-A827-4CCA7E0BBC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0B83C2-53AB-4999-9302-65782918AD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75EEC9-697F-461B-91D0-EF0F463BE3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9D6EF5-2687-43E7-8098-E99454FF8D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C23E2-8B0D-4305-BB5D-90176EB7C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777CBE-D57A-4E67-9582-421536F2CE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C804D3B-2A0B-4B06-B152-D0255BE412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9B3840-1286-41FB-83E3-64F943BC25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E75EFE-BAA3-40FC-B4CA-B8C5FF42BC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233058-5E30-4F44-BEA6-23D2C9E274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6DFE8F-A60D-4018-ADAE-710E48482C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6C52E5-BD2B-4689-BFE5-7E155CA0EC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7C6E03-3C2F-4571-A5AF-6B99CF763A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062C37-EEC7-48F6-8D18-0E6C56F9FE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2372A9-2311-48B0-917F-1218693E0A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211DB-F2D5-432F-AC1A-CBA3AE67F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A84DEA-1E1A-4A56-BC6C-7484EB867D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5FD06B-BD44-46D2-A856-A6B0F9AAD80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A40E3C-C5E8-4375-9012-0F2A787D8A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5C8FCD6-5DE0-44A9-A905-9CB60578F3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28C4CA-D514-48ED-AB9D-86273DCC85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DCDDCB-C224-48BF-8DCB-6D482D2629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B887CE-BEEE-42D7-A00C-FE72A9BCA8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F0D882-C782-4CAD-9A6B-EB6DC1F920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22406F-FD4E-41C2-8F7B-174BFDD394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138952-8AB5-4A7F-8EE2-4A1C8832AF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A95A2-0B26-4F2D-8073-F030BE096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1CD5DB-3CC8-48DE-AE22-0010F91AF6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8D4FA2-90D3-44A5-B495-2EBBB7B23A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3A0213-3502-4959-B340-0C24420D08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6BE79F-90C5-4B11-8DC7-14BEFD80C6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74B91EE-5C9E-4927-96C8-A9C11A76B3B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9C67A-A445-4E67-9E45-8B135BB0F4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E9231-B407-49B3-8E67-FA5CFD0C63DC}"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3C274-34E8-461E-876F-B588526367DC}"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71731-00BE-4CF4-94B7-31B9540DECE1}"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1A3EC-7DAA-4597-AB47-76FA5FBE5FC4}"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1CF5D-305A-4F94-8867-6CFD08BC1039}"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75426-009E-40A9-8F6A-1AAA4B864FBB}"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160" cy="131400"/>
            <a:chOff x="8516880" y="1217520"/>
            <a:chExt cx="128160" cy="131400"/>
          </a:xfrm>
        </p:grpSpPr>
        <p:sp>
          <p:nvSpPr>
            <p:cNvPr id="316" name="Straight Connector 20"/>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9240" cy="131400"/>
            <a:chOff x="8669160" y="1370160"/>
            <a:chExt cx="129240" cy="131400"/>
          </a:xfrm>
        </p:grpSpPr>
        <p:sp>
          <p:nvSpPr>
            <p:cNvPr id="320" name="Straight Connector 26"/>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160" cy="131400"/>
            <a:chOff x="8321760" y="1473120"/>
            <a:chExt cx="128160" cy="131400"/>
          </a:xfrm>
        </p:grpSpPr>
        <p:sp>
          <p:nvSpPr>
            <p:cNvPr id="324" name="Straight Connector 30"/>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40DCE-791C-4DE3-BD39-B9E8E4C93765}"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infoplease.com/ipa/A0001457.html"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2" descr="http://previous.presstv.ir/photo/20120623/gholami20120623141100013.jpg"/>
          <p:cNvPicPr/>
          <p:nvPr/>
        </p:nvPicPr>
        <p:blipFill>
          <a:blip r:embed="rId1"/>
          <a:stretch/>
        </p:blipFill>
        <p:spPr>
          <a:xfrm>
            <a:off x="0" y="0"/>
            <a:ext cx="9144000" cy="6858000"/>
          </a:xfrm>
          <a:prstGeom prst="rect">
            <a:avLst/>
          </a:prstGeom>
          <a:ln w="0">
            <a:noFill/>
          </a:ln>
        </p:spPr>
      </p:pic>
      <p:pic>
        <p:nvPicPr>
          <p:cNvPr id="369" name="Title 1" descr=""/>
          <p:cNvPicPr/>
          <p:nvPr/>
        </p:nvPicPr>
        <p:blipFill>
          <a:blip r:embed="rId2"/>
          <a:stretch/>
        </p:blipFill>
        <p:spPr>
          <a:xfrm>
            <a:off x="1371600" y="500040"/>
            <a:ext cx="6510240" cy="3840120"/>
          </a:xfrm>
          <a:prstGeom prst="rect">
            <a:avLst/>
          </a:prstGeom>
          <a:ln w="0">
            <a:noFill/>
          </a:ln>
        </p:spPr>
      </p:pic>
      <p:sp>
        <p:nvSpPr>
          <p:cNvPr id="370" name="PlaceHolder 1"/>
          <p:cNvSpPr>
            <a:spLocks noGrp="1"/>
          </p:cNvSpPr>
          <p:nvPr>
            <p:ph type="subTitle"/>
          </p:nvPr>
        </p:nvSpPr>
        <p:spPr>
          <a:xfrm>
            <a:off x="914400" y="2835000"/>
            <a:ext cx="7772400" cy="1508040"/>
          </a:xfrm>
          <a:prstGeom prst="rect">
            <a:avLst/>
          </a:prstGeom>
          <a:noFill/>
          <a:ln w="0">
            <a:noFill/>
          </a:ln>
        </p:spPr>
        <p:txBody>
          <a:bodyPr lIns="100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rbel"/>
              </a:rPr>
              <a:t>Shawn Lonabaugh</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http://theyellowbrickroadfreeblog.files.wordpress.com/2012/09/bomba-atomica-tsar-czar-2.jpg?w=593&amp;h=261&amp;crop=1"/>
          <p:cNvPicPr/>
          <p:nvPr/>
        </p:nvPicPr>
        <p:blipFill>
          <a:blip r:embed="rId1"/>
          <a:stretch/>
        </p:blipFill>
        <p:spPr>
          <a:xfrm>
            <a:off x="0" y="0"/>
            <a:ext cx="9144000" cy="6858000"/>
          </a:xfrm>
          <a:prstGeom prst="rect">
            <a:avLst/>
          </a:prstGeom>
          <a:ln w="0">
            <a:noFill/>
          </a:ln>
        </p:spPr>
      </p:pic>
      <p:sp>
        <p:nvSpPr>
          <p:cNvPr id="372" name="PlaceHolder 1"/>
          <p:cNvSpPr>
            <a:spLocks noGrp="1"/>
          </p:cNvSpPr>
          <p:nvPr>
            <p:ph type="title"/>
          </p:nvPr>
        </p:nvSpPr>
        <p:spPr>
          <a:xfrm>
            <a:off x="228600" y="-22896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c00000"/>
                </a:solidFill>
                <a:latin typeface="Haettenschweiler"/>
              </a:rPr>
              <a:t>Background</a:t>
            </a:r>
            <a:endParaRPr b="0" lang="en-US" sz="6000" spc="-1" strike="noStrike">
              <a:solidFill>
                <a:srgbClr val="c1eeff"/>
              </a:solidFill>
              <a:latin typeface="Consolas"/>
            </a:endParaRPr>
          </a:p>
        </p:txBody>
      </p:sp>
      <p:sp>
        <p:nvSpPr>
          <p:cNvPr id="373" name=""/>
          <p:cNvSpPr txBox="1"/>
          <p:nvPr/>
        </p:nvSpPr>
        <p:spPr>
          <a:xfrm>
            <a:off x="914400" y="1784520"/>
            <a:ext cx="7772400" cy="4572000"/>
          </a:xfrm>
          <a:prstGeom prst="rect">
            <a:avLst/>
          </a:prstGeom>
          <a:noFill/>
          <a:ln w="0">
            <a:noFill/>
          </a:ln>
        </p:spPr>
        <p:txBody>
          <a:bodyPr anchor="t">
            <a:normAutofit fontScale="93000"/>
          </a:bodyPr>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Nuclear energy first came about it the 1940s during WWII. Nuclear properties had been studied for years prior but came directly to be known due to World War II. The atomic bomb is what really sparked interest in nuclear energy. </a:t>
            </a:r>
            <a:r>
              <a:rPr b="0" lang="en-US" sz="2400" spc="-1" strike="noStrike">
                <a:solidFill>
                  <a:srgbClr val="000000"/>
                </a:solidFill>
                <a:latin typeface="Corbel"/>
              </a:rPr>
              <a:t>After it was built, nuclear power plants began to show up as a new kind of energy source. The first power plant being the Obinsk Nuclear Power </a:t>
            </a:r>
            <a:r>
              <a:rPr b="0" lang="en-US" sz="2400" spc="-1" strike="noStrike">
                <a:solidFill>
                  <a:srgbClr val="ffffff"/>
                </a:solidFill>
                <a:latin typeface="Corbel"/>
              </a:rPr>
              <a:t>Plant. Ever since that came to be, other nuclear plants began showing up all over the world. Little did the people building the power plants know that they could go from a source of energy to a horrible disaster. Nuclear disasters soon came to be known and dangerous, with the first being in 1952.</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276360" y="380880"/>
            <a:ext cx="38862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auses</a:t>
            </a:r>
            <a:endParaRPr b="0" lang="en-US" sz="4000" spc="-1" strike="noStrike">
              <a:solidFill>
                <a:srgbClr val="c1eeff"/>
              </a:solidFill>
              <a:latin typeface="Consolas"/>
            </a:endParaRPr>
          </a:p>
        </p:txBody>
      </p:sp>
      <p:sp>
        <p:nvSpPr>
          <p:cNvPr id="375" name=""/>
          <p:cNvSpPr txBox="1"/>
          <p:nvPr/>
        </p:nvSpPr>
        <p:spPr>
          <a:xfrm>
            <a:off x="685800" y="1066320"/>
            <a:ext cx="7772400" cy="4953240"/>
          </a:xfrm>
          <a:prstGeom prst="rect">
            <a:avLst/>
          </a:prstGeom>
          <a:noFill/>
          <a:ln w="0">
            <a:noFill/>
          </a:ln>
        </p:spPr>
        <p:txBody>
          <a:bodyPr anchor="t">
            <a:normAutofit fontScale="99000"/>
          </a:bodyPr>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urity Measures Failing.</a:t>
            </a:r>
            <a:endParaRPr b="0" lang="en-US" sz="2400" spc="-1" strike="noStrike">
              <a:solidFill>
                <a:srgbClr val="ffffff"/>
              </a:solidFill>
              <a:latin typeface="Corbel"/>
            </a:endParaRPr>
          </a:p>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Lack of attention paid to reactor’s status.</a:t>
            </a:r>
            <a:endParaRPr b="0" lang="en-US" sz="2400" spc="-1" strike="noStrike">
              <a:solidFill>
                <a:srgbClr val="ffffff"/>
              </a:solidFill>
              <a:latin typeface="Corbel"/>
            </a:endParaRPr>
          </a:p>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Ignoring how stable the reactor or other parts are.</a:t>
            </a:r>
            <a:endParaRPr b="0" lang="en-US" sz="2400" spc="-1" strike="noStrike">
              <a:solidFill>
                <a:srgbClr val="ffffff"/>
              </a:solidFill>
              <a:latin typeface="Corbel"/>
            </a:endParaRPr>
          </a:p>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Loss of the Coolant.</a:t>
            </a:r>
            <a:endParaRPr b="0" lang="en-US" sz="2400" spc="-1" strike="noStrike">
              <a:solidFill>
                <a:srgbClr val="ffffff"/>
              </a:solidFill>
              <a:latin typeface="Corbel"/>
            </a:endParaRPr>
          </a:p>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ccidental Removal of uranium rods</a:t>
            </a:r>
            <a:endParaRPr b="0" lang="en-US" sz="2400" spc="-1" strike="noStrike">
              <a:solidFill>
                <a:srgbClr val="ffffff"/>
              </a:solidFill>
              <a:latin typeface="Corbel"/>
            </a:endParaRPr>
          </a:p>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Damage to reactor or plant by natural disasters such as tsunamis or earthquakes.</a:t>
            </a:r>
            <a:endParaRPr b="0" lang="en-US" sz="2400" spc="-1" strike="noStrike">
              <a:solidFill>
                <a:srgbClr val="ffffff"/>
              </a:solidFill>
              <a:latin typeface="Corbel"/>
            </a:endParaRPr>
          </a:p>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laws in the design of the reactors.</a:t>
            </a:r>
            <a:endParaRPr b="0" lang="en-US" sz="2400" spc="-1" strike="noStrike">
              <a:solidFill>
                <a:srgbClr val="ffffff"/>
              </a:solidFill>
              <a:latin typeface="Corbel"/>
            </a:endParaRPr>
          </a:p>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ore Explosions.</a:t>
            </a:r>
            <a:endParaRPr b="0" lang="en-US" sz="2400" spc="-1" strike="noStrike">
              <a:solidFill>
                <a:srgbClr val="ffffff"/>
              </a:solidFill>
              <a:latin typeface="Corbel"/>
            </a:endParaRPr>
          </a:p>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Leaks of radioactive gas into air.</a:t>
            </a:r>
            <a:endParaRPr b="0" lang="en-US" sz="2400" spc="-1" strike="noStrike">
              <a:solidFill>
                <a:srgbClr val="ffffff"/>
              </a:solidFill>
              <a:latin typeface="Corbel"/>
            </a:endParaRPr>
          </a:p>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Explosion fueled by combustible sugar dust.</a:t>
            </a:r>
            <a:endParaRPr b="0" lang="en-US" sz="2400" spc="-1" strike="noStrike">
              <a:solidFill>
                <a:srgbClr val="ffffff"/>
              </a:solidFill>
              <a:latin typeface="Corbel"/>
            </a:endParaRPr>
          </a:p>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Mistakes by plant operators.</a:t>
            </a:r>
            <a:endParaRPr b="0" lang="en-US" sz="2400" spc="-1" strike="noStrike">
              <a:solidFill>
                <a:srgbClr val="ffffff"/>
              </a:solidFill>
              <a:latin typeface="Corbel"/>
            </a:endParaRPr>
          </a:p>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pic>
        <p:nvPicPr>
          <p:cNvPr id="376" name="Picture 2" descr="http://static.ddmcdn.com/gif/nuclear-meltdown-1.jpg"/>
          <p:cNvPicPr/>
          <p:nvPr/>
        </p:nvPicPr>
        <p:blipFill>
          <a:blip r:embed="rId1"/>
          <a:stretch/>
        </p:blipFill>
        <p:spPr>
          <a:xfrm>
            <a:off x="6286680" y="4572000"/>
            <a:ext cx="2857320" cy="190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5" descr="http://2.bp.blogspot.com/-i50LQRbu1Ms/TY8z-1oRVeI/AAAAAAAAAJg/6aCuQv0dysU/s1600/japan-nuclear-leak.jpg"/>
          <p:cNvPicPr/>
          <p:nvPr/>
        </p:nvPicPr>
        <p:blipFill>
          <a:blip r:embed="rId1"/>
          <a:stretch/>
        </p:blipFill>
        <p:spPr>
          <a:xfrm>
            <a:off x="6645240" y="5181480"/>
            <a:ext cx="2498760" cy="1676520"/>
          </a:xfrm>
          <a:prstGeom prst="rect">
            <a:avLst/>
          </a:prstGeom>
          <a:ln w="0">
            <a:noFill/>
          </a:ln>
        </p:spPr>
      </p:pic>
      <p:sp>
        <p:nvSpPr>
          <p:cNvPr id="378" name="PlaceHolder 1"/>
          <p:cNvSpPr>
            <a:spLocks noGrp="1"/>
          </p:cNvSpPr>
          <p:nvPr>
            <p:ph type="title"/>
          </p:nvPr>
        </p:nvSpPr>
        <p:spPr>
          <a:xfrm>
            <a:off x="1523520" y="228600"/>
            <a:ext cx="624852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eeff"/>
                </a:solidFill>
                <a:latin typeface="Consolas"/>
              </a:rPr>
              <a:t>Instances of Nuclear disasters</a:t>
            </a:r>
            <a:endParaRPr b="0" lang="en-US" sz="2800" spc="-1" strike="noStrike">
              <a:solidFill>
                <a:srgbClr val="c1eeff"/>
              </a:solidFill>
              <a:latin typeface="Consolas"/>
            </a:endParaRPr>
          </a:p>
        </p:txBody>
      </p:sp>
      <p:sp>
        <p:nvSpPr>
          <p:cNvPr id="379" name=""/>
          <p:cNvSpPr txBox="1"/>
          <p:nvPr/>
        </p:nvSpPr>
        <p:spPr>
          <a:xfrm>
            <a:off x="914400" y="762120"/>
            <a:ext cx="7772400" cy="5790960"/>
          </a:xfrm>
          <a:prstGeom prst="rect">
            <a:avLst/>
          </a:prstGeom>
          <a:noFill/>
          <a:ln w="0">
            <a:noFill/>
          </a:ln>
        </p:spPr>
        <p:txBody>
          <a:bodyPr anchor="t">
            <a:normAutofit fontScale="97000"/>
          </a:bodyPr>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1952: Dec. 12 Ottawa Canada:  Meltdown of Uranium core after accidental removal of 4 control rods.</a:t>
            </a:r>
            <a:endParaRPr b="0" lang="en-US" sz="24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1953: Love Canal, N.Y.:  Waste from Chemical plants ravaged area.</a:t>
            </a:r>
            <a:endParaRPr b="0" lang="en-US" sz="24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1979: Harrisburg, PA: One of two reactors lost coolant. Uranium core had a partial meltdown, radioactive water and gases were released. Worst reactor accident in US history.</a:t>
            </a:r>
            <a:endParaRPr b="0" lang="en-US" sz="24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1986:Chernobyl: Explosion and fire in the graphite core spread nuclear materials all over Soviet Union. Worst accident to date.</a:t>
            </a:r>
            <a:endParaRPr b="0" lang="en-US" sz="24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2011: Fukushima: Explosion in no.1 reactor destroys building. Cooling system failed after a tsunami</a:t>
            </a:r>
            <a:r>
              <a:rPr b="0" lang="en-US" sz="2400" spc="-1" strike="noStrike">
                <a:solidFill>
                  <a:srgbClr val="000000"/>
                </a:solidFill>
                <a:latin typeface="Corbel"/>
              </a:rPr>
              <a:t> and an </a:t>
            </a:r>
            <a:r>
              <a:rPr b="0" lang="en-US" sz="2400" spc="-1" strike="noStrike">
                <a:solidFill>
                  <a:srgbClr val="ffffff"/>
                </a:solidFill>
                <a:latin typeface="Corbel"/>
              </a:rPr>
              <a:t>earthquake struck Japan.</a:t>
            </a:r>
            <a:endParaRPr b="0" lang="en-US" sz="24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hernobyl and Fukushima</a:t>
            </a:r>
            <a:endParaRPr b="0" lang="en-US" sz="4000" spc="-1" strike="noStrike">
              <a:solidFill>
                <a:srgbClr val="c1eeff"/>
              </a:solidFill>
              <a:latin typeface="Consolas"/>
            </a:endParaRPr>
          </a:p>
        </p:txBody>
      </p:sp>
      <p:sp>
        <p:nvSpPr>
          <p:cNvPr id="381"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82" name="Picture 2" descr="http://i.dailymail.co.uk/i/pix/2011/03/14/article-1365781-0B2BE15B00000578-811_634x432.jpg"/>
          <p:cNvPicPr/>
          <p:nvPr/>
        </p:nvPicPr>
        <p:blipFill>
          <a:blip r:embed="rId1"/>
          <a:stretch/>
        </p:blipFill>
        <p:spPr>
          <a:xfrm>
            <a:off x="4800600" y="1981080"/>
            <a:ext cx="4343400" cy="2959200"/>
          </a:xfrm>
          <a:prstGeom prst="rect">
            <a:avLst/>
          </a:prstGeom>
          <a:ln w="0">
            <a:noFill/>
          </a:ln>
        </p:spPr>
      </p:pic>
      <p:sp>
        <p:nvSpPr>
          <p:cNvPr id="383" name="AutoShape 4"/>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AutoShape 6"/>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AutoShape 8"/>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AutoShape 10"/>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AutoShape 12"/>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AutoShape 14"/>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89" name="Picture 16" descr="https://encrypted-tbn2.gstatic.com/images?q=tbn:ANd9GcQxEWZjwQccd8OmKXuUcPUXY-6bdycklqark6MFvUI3HVx67ZGE"/>
          <p:cNvPicPr/>
          <p:nvPr/>
        </p:nvPicPr>
        <p:blipFill>
          <a:blip r:embed="rId2"/>
          <a:stretch/>
        </p:blipFill>
        <p:spPr>
          <a:xfrm>
            <a:off x="838080" y="1828800"/>
            <a:ext cx="3272040" cy="3657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ources:</a:t>
            </a:r>
            <a:endParaRPr b="0" lang="en-US" sz="4000" spc="-1" strike="noStrike">
              <a:solidFill>
                <a:srgbClr val="c1eeff"/>
              </a:solidFill>
              <a:latin typeface="Consolas"/>
            </a:endParaRPr>
          </a:p>
        </p:txBody>
      </p:sp>
      <p:sp>
        <p:nvSpPr>
          <p:cNvPr id="391" name=""/>
          <p:cNvSpPr txBox="1"/>
          <p:nvPr/>
        </p:nvSpPr>
        <p:spPr>
          <a:xfrm>
            <a:off x="914400" y="1294920"/>
            <a:ext cx="7772400" cy="5257800"/>
          </a:xfrm>
          <a:prstGeom prst="rect">
            <a:avLst/>
          </a:prstGeom>
          <a:noFill/>
          <a:ln w="0">
            <a:noFill/>
          </a:ln>
        </p:spPr>
        <p:txBody>
          <a:bodyPr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1"/>
              </a:rPr>
              <a:t>http://www.infoplease.com/ipa/A0001457.html</a:t>
            </a:r>
            <a:endParaRPr b="0" lang="en-US" sz="30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ttp://www.world-nuclear.org/info/safety-and-security/safety-of-plants/chernobyl-accident/</a:t>
            </a:r>
            <a:endParaRPr b="0" lang="en-US" sz="30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ttp://www.world-nuclear.org/info/Safety-and-Security/Safety-of-Plants/Fukushima-Accident/</a:t>
            </a:r>
            <a:endParaRPr b="0" lang="en-US" sz="30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ttp://www.world-nuclear.org/info/Current-and-Future-Generation/Outline-History-of-NUclear-Energy/</a:t>
            </a:r>
            <a:endParaRPr b="0" lang="en-US" sz="30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9T12:04:21Z</dcterms:created>
  <dc:creator> </dc:creator>
  <dc:description/>
  <dc:language>en-US</dc:language>
  <cp:lastModifiedBy> </cp:lastModifiedBy>
  <dcterms:modified xsi:type="dcterms:W3CDTF">2014-03-25T12:14:24Z</dcterms:modified>
  <cp:revision>17</cp:revision>
  <dc:subject/>
  <dc:title>Nuclear Disasters</dc:title>
</cp:coreProperties>
</file>