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002822-AA7C-4A9B-85AE-C76376EDB0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3AB980-AC44-4042-9351-E471F9B74F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472CCB-8723-4E28-BBDD-B642F18B98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CA0EE7-65ED-4C41-B927-61E402D75A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247B27-FCE8-4C7C-949E-F4393DE956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A3ABD2-7DE3-4D2A-97DA-D97FAE049D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F7CF0D-1FE6-4214-8DA6-96BABB4977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F75131-C6F7-4C1E-848B-FE60842C6E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821E71-22A2-40FD-9E77-3C732C5CB3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29E508-F99B-4186-8F0D-DB1C045C0D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463F52-CEE4-4F03-BE3C-03EBCBB9CE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727CF4-00FC-4F3F-8C0B-6A3A0AF075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A729C5-4E2A-4C1F-BAB1-1CE328A6A63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edicine</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y</a:t>
            </a:r>
            <a:r>
              <a:rPr b="0" lang="en-US" sz="3200" spc="-1" strike="noStrike">
                <a:solidFill>
                  <a:srgbClr val="898989"/>
                </a:solidFill>
                <a:latin typeface="Calibri"/>
              </a:rPr>
              <a:t> </a:t>
            </a:r>
            <a:r>
              <a:rPr b="0" lang="en-US" sz="3200" spc="-1" strike="noStrike">
                <a:solidFill>
                  <a:srgbClr val="000000"/>
                </a:solidFill>
                <a:latin typeface="Calibri"/>
              </a:rPr>
              <a:t>Rasheed Abraham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finition </a:t>
            </a:r>
            <a:endParaRPr b="0" lang="en-US" sz="4400" spc="-1" strike="noStrike">
              <a:solidFill>
                <a:srgbClr val="000000"/>
              </a:solidFill>
              <a:latin typeface="Calibri"/>
            </a:endParaRPr>
          </a:p>
        </p:txBody>
      </p:sp>
      <p:sp>
        <p:nvSpPr>
          <p:cNvPr id="4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science of diagnosing, treating, or preventing disease and other damage to the body or min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w it works</a:t>
            </a:r>
            <a:endParaRPr b="0" lang="en-US" sz="4400" spc="-1" strike="noStrike">
              <a:solidFill>
                <a:srgbClr val="000000"/>
              </a:solidFill>
              <a:latin typeface="Calibri"/>
            </a:endParaRPr>
          </a:p>
        </p:txBody>
      </p:sp>
      <p:sp>
        <p:nvSpPr>
          <p:cNvPr id="4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t helps with pain or is used to in things like body building but all meds are not as good as you might think some can kill or incompasitate a person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sed for</a:t>
            </a:r>
            <a:endParaRPr b="0" lang="en-US" sz="4400" spc="-1" strike="noStrike">
              <a:solidFill>
                <a:srgbClr val="000000"/>
              </a:solidFill>
              <a:latin typeface="Calibri"/>
            </a:endParaRPr>
          </a:p>
        </p:txBody>
      </p:sp>
      <p:sp>
        <p:nvSpPr>
          <p:cNvPr id="4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y are used to make a person fill as healthy as a normal person should. Even if they are in pain a kind of pain relief medicine should help reduce the amount of physical or mental pain they are in.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lements </a:t>
            </a:r>
            <a:endParaRPr b="0" lang="en-US" sz="4400" spc="-1" strike="noStrike">
              <a:solidFill>
                <a:srgbClr val="000000"/>
              </a:solidFill>
              <a:latin typeface="Calibri"/>
            </a:endParaRPr>
          </a:p>
        </p:txBody>
      </p:sp>
      <p:sp>
        <p:nvSpPr>
          <p:cNvPr id="5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lements are used in the making of meds example h2o water pills or carbon and others like iron and salt tablets and there are many other types of elements used in medicines like mercury  hydrogen titanium and tin.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w its made</a:t>
            </a:r>
            <a:endParaRPr b="0" lang="en-US" sz="4400" spc="-1" strike="noStrike">
              <a:solidFill>
                <a:srgbClr val="000000"/>
              </a:solidFill>
              <a:latin typeface="Calibri"/>
            </a:endParaRPr>
          </a:p>
        </p:txBody>
      </p:sp>
      <p:sp>
        <p:nvSpPr>
          <p:cNvPr id="5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ome medicine is made by hand witch is called hearable medicine then we have factory made pills and supplements that are produced at a massive rate about 200,000,000 every secon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happens when you shallow </a:t>
            </a:r>
            <a:endParaRPr b="0" lang="en-US" sz="4400" spc="-1" strike="noStrike">
              <a:solidFill>
                <a:srgbClr val="000000"/>
              </a:solidFill>
              <a:latin typeface="Calibri"/>
            </a:endParaRPr>
          </a:p>
        </p:txBody>
      </p:sp>
      <p:sp>
        <p:nvSpPr>
          <p:cNvPr id="5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pill will dissolve and release many microscopic organisms in to you blood stream creating some kind of effect that could  result in many thing such as death headaches relief or hallucination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3-20T14:01:56Z</dcterms:created>
  <dc:creator> </dc:creator>
  <dc:description/>
  <dc:language>en-US</dc:language>
  <cp:lastModifiedBy> </cp:lastModifiedBy>
  <dcterms:modified xsi:type="dcterms:W3CDTF">2014-03-21T14:13:47Z</dcterms:modified>
  <cp:revision>12</cp:revision>
  <dc:subject/>
  <dc:title>Medicine</dc:title>
</cp:coreProperties>
</file>