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47187-EA4D-4876-A2BB-3E5AD8118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39433-ECEE-4E33-8895-B377773BC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07106-8339-41F3-9473-C7C0E063E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A3EA2-3BD1-4C41-B769-7601D7132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A6BEB-ED74-4A3C-84A9-1F7104B61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A088E-7D70-46E5-BA7C-07EBCB3E9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8967D-C2D3-4220-BD07-7C6E9A40A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5E9B2-08CE-4663-9395-87F367CD1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6AE1C-9DE4-4EFC-B36A-6643C93D1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358EB-DBA5-4245-A8BA-D25E8CABA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80868-F74C-4EF9-8417-7B6E44BE0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08147-E8CB-4C55-A380-6581FDD30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6F6B-4E7B-4026-B77A-2E423B1360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in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a:t>
            </a:r>
            <a:r>
              <a:rPr b="0" lang="en-US" sz="3200" spc="-1" strike="noStrike">
                <a:solidFill>
                  <a:srgbClr val="898989"/>
                </a:solidFill>
                <a:latin typeface="Calibri"/>
              </a:rPr>
              <a:t> </a:t>
            </a:r>
            <a:r>
              <a:rPr b="0" lang="en-US" sz="3200" spc="-1" strike="noStrike">
                <a:solidFill>
                  <a:srgbClr val="000000"/>
                </a:solidFill>
                <a:latin typeface="Calibri"/>
              </a:rPr>
              <a:t>Rasheed Abraha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cience of diagnosing, treating, or preventing disease and other damage to the body or mi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elps with pain or is used to in things like body building but all meds are not as good as you might think some can kill or incompasitate a pers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d fo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re used to make a person fill as healthy as a normal person should. Even if they are in pain a kind of pain relief medicine should help reduce the amount of physical or mental pain they are 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are used in the making of meds example h2o water pills or carbon and others like iron and salt tablets and there are many other types of elements used in medicines like mercury  hydrogen titanium and t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s mad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dicine is made by hand witch is called hearable medicine then we have factory made pills and supplements that are produced at a massive rate about 200,000,000 every sec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happens when you shallow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ill will dissolve and release many microscopic organisms in to you blood stream creating some kind of effect that could  result in many thing such as death headaches relief or hallucin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4:01:56Z</dcterms:created>
  <dc:creator> </dc:creator>
  <dc:description/>
  <dc:language>en-US</dc:language>
  <cp:lastModifiedBy> </cp:lastModifiedBy>
  <dcterms:modified xsi:type="dcterms:W3CDTF">2014-03-21T14:13:47Z</dcterms:modified>
  <cp:revision>12</cp:revision>
  <dc:subject/>
  <dc:title>Medicine</dc:title>
</cp:coreProperties>
</file>